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067-2A9F-40F7-9828-85F62B6C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1A3-1ECD-4434-929C-DFF6BFC5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41C-6F7F-4756-8900-0D844F2E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750-3B0F-4B38-8770-253F4ACC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DFD6-4A5C-4DF0-ABA1-81D8CBAB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BABA-6FB7-4429-89C1-AE7D20C0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9E10-A940-4EF3-9FD2-6A62AEA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A784-A903-484C-A132-9F3A51E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C72-C979-4128-8D7D-8ABB424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B90-4B12-4D51-8521-115857E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16F-FB28-4015-B916-9576E9A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E07-C964-450F-94DD-6D42A366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3C2-1A2B-4767-A86F-D7D7B30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5B3-4C64-4455-BF15-5AA02A9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C78-680E-45CD-B21A-1C28AAE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4655-2540-4BF6-A531-A4793BCA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E57-9D52-488F-88A4-F4498217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DDF-93D9-4C59-861D-FEAAA19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BE7-A842-4201-BBD8-E58A4200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335-FC39-45E8-8613-61B24430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B3F-9B73-48D7-B6BE-4FD1854A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4D9-D67C-4878-B401-4405A26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BE9-90B0-4414-A7B9-C76DC9B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2DF-280E-4C95-A947-B7352131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412-FC7B-4A4B-B68C-A55EB6B0CB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481-0731-4AE1-83EA-71961F185A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43000"/>
            <a:ext cx="7139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Cell injury and Cellular Adaptive Change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ophy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reversible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cell size reduction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813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atr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work lo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us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oss of nerve su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blood su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duced endocrine stimulation </a:t>
            </a:r>
            <a:br>
              <a:rPr sz="3200"/>
            </a:b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</a:rPr>
              <a:t>uterine atrophy after menopaus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g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l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872480" y="34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trophy</a:t>
            </a:r>
            <a:br>
              <a:rPr sz="4200"/>
            </a:b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</a:rPr>
              <a:t>increased cell size</a:t>
            </a: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317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hypertroph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ysi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muscle hypertrophy in athl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left heart ventricular hypertrophy due to the arterial      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ensatory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 paired organs, hypertrophy of remaining kidn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plasia</a:t>
            </a:r>
            <a:br>
              <a:rPr sz="4200"/>
            </a:br>
            <a:r>
              <a:rPr b="1" lang="sl-SI" sz="3800" spc="-1" strike="noStrike">
                <a:solidFill>
                  <a:srgbClr val="303000"/>
                </a:solidFill>
                <a:latin typeface="Times New Roman"/>
              </a:rPr>
              <a:t>(cell number increas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lang="sr-C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yperpla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hysi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hormonal stimulation: occurs in pregn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ens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 case of regeneration:when part of liver is destroy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th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normal stimulation of organs with cells that are capable of re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change in whi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cel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 repla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a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nflammation or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adaptive substitution of one cell typ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ore su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hostile environment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placement of the normal ciliated goblet cells of the bronchial tree by squamous epithelial cells in chronic smo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682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ppearance of cells that have undergon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ypical chan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ypical hyperplas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anged cell growth of specific tissue results i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bnormal size, shape,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trolled reproduction of cells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ly related to malignant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thelial cells are common sites for dysplastic changes: Bronchial epithelium, Cervical epitheliu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injury can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 inju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s function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out causing cell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cell injury are the same causes of cellular 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auses of cell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541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ysical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es, bacteria, fungi,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/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To remember the causes of cell injury, think of how the injury tipped (or TIPD) the homeostasis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n or other lethal (cytotoxic)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sical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t, or lack of water, oxygen, o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ll injury by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ree oxygen rad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Hypoxia / isch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1. Free oxygen radicals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electr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ause of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ends to go into a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ree radicals are formed 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with molecules from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e radicals also react with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ce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ir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cell death: apoptosis and nec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s can form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physiolog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 phagocy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on of etiolog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 formation increases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676160"/>
            <a:ext cx="831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on of ioniz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ion of free radical elimin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chem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normal blood flow in isch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(reperfusion inj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859280" y="4314960"/>
            <a:ext cx="4284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e radicals react with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3300"/>
                </a:solidFill>
                <a:latin typeface="Times New Roman"/>
              </a:rPr>
              <a:t>DN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 break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cleavage polypeptide cha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(lipid peroxidatio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00000" y="228600"/>
            <a:ext cx="748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4572000" y="1905120"/>
            <a:ext cx="2362320" cy="459720"/>
          </a:xfrm>
          <a:prstGeom prst="borderCallout1">
            <a:avLst>
              <a:gd name="adj1" fmla="val 18750"/>
              <a:gd name="adj2" fmla="val -8333"/>
              <a:gd name="adj3" fmla="val 247726"/>
              <a:gd name="adj4" fmla="val -104296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1360" y="2911320"/>
            <a:ext cx="2174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42920" y="228600"/>
            <a:ext cx="756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79360" y="101448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0" y="2610000"/>
            <a:ext cx="2808360" cy="459720"/>
          </a:xfrm>
          <a:prstGeom prst="borderCallout1">
            <a:avLst>
              <a:gd name="adj1" fmla="val 18750"/>
              <a:gd name="adj2" fmla="val -8333"/>
              <a:gd name="adj3" fmla="val 189277"/>
              <a:gd name="adj4" fmla="val -97958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d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70000" y="10224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5435640" y="2205000"/>
            <a:ext cx="3155760" cy="825480"/>
          </a:xfrm>
          <a:prstGeom prst="borderCallout1">
            <a:avLst>
              <a:gd name="adj1" fmla="val 18750"/>
              <a:gd name="adj2" fmla="val -8333"/>
              <a:gd name="adj3" fmla="val 327981"/>
              <a:gd name="adj4" fmla="val -101949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71640" y="22860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68560" y="101448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572000" y="1676520"/>
            <a:ext cx="2514600" cy="459720"/>
          </a:xfrm>
          <a:prstGeom prst="borderCallout1">
            <a:avLst>
              <a:gd name="adj1" fmla="val 18750"/>
              <a:gd name="adj2" fmla="val -8333"/>
              <a:gd name="adj3" fmla="val 57351"/>
              <a:gd name="adj4" fmla="val -61962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724280" y="3159000"/>
            <a:ext cx="2362320" cy="825480"/>
          </a:xfrm>
          <a:prstGeom prst="borderCallout1">
            <a:avLst>
              <a:gd name="adj1" fmla="val 18750"/>
              <a:gd name="adj2" fmla="val -8333"/>
              <a:gd name="adj3" fmla="val -115296"/>
              <a:gd name="adj4" fmla="val -75513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tranded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990720" y="1905120"/>
            <a:ext cx="533160" cy="152280"/>
          </a:xfrm>
          <a:prstGeom prst="line">
            <a:avLst/>
          </a:prstGeom>
          <a:ln w="2844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3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53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Hypoxia-induced inju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ia can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oxygen concentration in the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nd cardiovascula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inability to utilize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hypoxia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oxidativ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c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zymes are ac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is accumulated 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l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duced AT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dequate functioning of the Na-K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entration and water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cell and cell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Once agai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differences between reversiable and irreversible cell injurie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versible vs. Irreversible 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 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rever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ause of injury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Ischem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fers to a critical lack of blood supply to a localized are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ccurs in the presence of atherosclerosis in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Ir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not b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ause has been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ar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calized area of tissue death due to lack of blood su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eversible and irreversible cell inju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6" descr="S01871-001-f008"/>
          <p:cNvPicPr/>
          <p:nvPr/>
        </p:nvPicPr>
        <p:blipFill>
          <a:blip r:embed="rId1"/>
          <a:stretch/>
        </p:blipFill>
        <p:spPr>
          <a:xfrm>
            <a:off x="1619280" y="1612800"/>
            <a:ext cx="6553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rreversible cell injury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 dea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75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620640"/>
          <a:ext cx="8153640" cy="5799240"/>
        </p:xfrm>
        <a:graphic>
          <a:graphicData uri="http://schemas.openxmlformats.org/drawingml/2006/table">
            <a:tbl>
              <a:tblPr/>
              <a:tblGrid>
                <a:gridCol w="3888000"/>
                <a:gridCol w="42656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r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pt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ical or 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w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 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a group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only on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gulation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atin 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tion of cellular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on of apoptotic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pt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grammed cell de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c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ne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 singl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ll death program is activated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by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inding the activating ligand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o the receptor at the target cell membrane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ex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absence of a stimulu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hormone or cytokine) necessary for cell survival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574800" y="260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굴림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3400" y="106992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xtrinsic pathway           intrins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451240" y="1790640"/>
            <a:ext cx="1511280" cy="533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"/>
          <p:cNvSpPr/>
          <p:nvPr/>
        </p:nvSpPr>
        <p:spPr>
          <a:xfrm flipH="1">
            <a:off x="5418000" y="1790640"/>
            <a:ext cx="1511280" cy="533520"/>
          </a:xfrm>
          <a:custGeom>
            <a:avLst/>
            <a:gdLst>
              <a:gd name="textAreaLeft" fmla="*/ 360 w 1511280"/>
              <a:gd name="textAreaRight" fmla="*/ 151200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82320" y="2652840"/>
            <a:ext cx="3493800" cy="52056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굴림"/>
              </a:rPr>
              <a:t>Mitochondrial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00600" y="32767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49400" y="36432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ascade activation of caspase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805280" y="41911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663560" y="455940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leavage of proteins and DNA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799160" y="50785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022040" y="5445000"/>
            <a:ext cx="77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phagocytosis of apoptotic bodies, no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unit of structure and function of all living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 - more than 75 trillio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ells - replac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have been dam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arious e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975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Picture 6" descr="S01871-001-f028"/>
          <p:cNvPicPr/>
          <p:nvPr/>
        </p:nvPicPr>
        <p:blipFill>
          <a:blip r:embed="rId1"/>
          <a:stretch/>
        </p:blipFill>
        <p:spPr>
          <a:xfrm>
            <a:off x="1258920" y="1413000"/>
            <a:ext cx="7416720" cy="51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issue heal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676520"/>
            <a:ext cx="83170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flammatory response is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he two major components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ene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ment of los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s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ells of the sam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aling as a result of lost cells being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d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common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ealing and usually result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 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gene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656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cells to regenerate depend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ile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ells of the skin, lymph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, bone marrow…)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ivide consta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jury to these organs is follow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id 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le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their ability to regenerate but do so only if the organism injured (liver cells, bone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anen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t r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urons and cardiac muscle cells). Damage to these cells can lead to permanent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 the types of cellular adaptive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of the following adaptive change have higher chance of malignant trans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Hyper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Hyper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Dys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Adaptive chang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's response to inju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onset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ptive cell chan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ll size, number o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normal life cyc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an environmental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stinguish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19040" y="800280"/>
            <a:ext cx="65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18480"/>
            <a:ext cx="887400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ss /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               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ell response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DAP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versible injur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 swell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degenera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n progres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rreversible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rosis, apoptos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900000" y="981000"/>
          <a:ext cx="77043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704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"/>
          <p:cNvSpPr/>
          <p:nvPr/>
        </p:nvSpPr>
        <p:spPr>
          <a:xfrm>
            <a:off x="1869840" y="27612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The outcome of cellula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6:53:45Z</dcterms:created>
  <dc:creator>Simonovic</dc:creator>
  <dc:description/>
  <dc:language>en-US</dc:language>
  <cp:lastModifiedBy>User</cp:lastModifiedBy>
  <dcterms:modified xsi:type="dcterms:W3CDTF">2023-10-28T17:54:01Z</dcterms:modified>
  <cp:revision>192</cp:revision>
  <dc:subject/>
  <dc:title>POVREDA ĆELIJE  REAKCIJA ĆELIJE NA POVREDU</dc:title>
</cp:coreProperties>
</file>